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028-A424-4783-AC2D-883D1248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963-288E-414A-8FCF-553074C3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06F-109E-4662-BFB5-3C7F4FF1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225-70CC-4D20-B170-580D3CE7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0F4-8C4F-424F-90E5-59FD8ECF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594-C95A-4BF0-81C8-7D7E6A5A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EBB-999B-4643-9ED0-0F5AD8C8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9EC-2BE8-43D1-A1C0-14248A36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8F4-060C-43F1-8F3A-0553E372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15F-2586-430E-B434-A44B641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96E-CBFF-48B1-A440-2335CA4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602-7D98-41C9-B7BD-C2AF4CDF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7913-A4C3-4184-8D9D-6F8D3727CC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3124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5" descr=""/>
          <p:cNvPicPr/>
          <p:nvPr/>
        </p:nvPicPr>
        <p:blipFill>
          <a:blip r:embed="rId3"/>
          <a:stretch/>
        </p:blipFill>
        <p:spPr>
          <a:xfrm>
            <a:off x="1395360" y="2378160"/>
            <a:ext cx="253692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3124080" cy="26575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2060640" y="5041800"/>
            <a:ext cx="194472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2048040" y="4243320"/>
            <a:ext cx="338292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371600" y="3438360"/>
            <a:ext cx="35244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6" descr=""/>
          <p:cNvPicPr/>
          <p:nvPr/>
        </p:nvPicPr>
        <p:blipFill>
          <a:blip r:embed="rId3"/>
          <a:stretch/>
        </p:blipFill>
        <p:spPr>
          <a:xfrm>
            <a:off x="1395360" y="2475000"/>
            <a:ext cx="2895480" cy="66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4"/>
          <a:stretch/>
        </p:blipFill>
        <p:spPr>
          <a:xfrm>
            <a:off x="5769000" y="1700280"/>
            <a:ext cx="27925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1292400" y="52243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-1481040" y="573084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1292400" y="4511520"/>
            <a:ext cx="8229600" cy="7128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-146160" y="399240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5" descr=""/>
          <p:cNvPicPr/>
          <p:nvPr/>
        </p:nvPicPr>
        <p:blipFill>
          <a:blip r:embed="rId3"/>
          <a:stretch/>
        </p:blipFill>
        <p:spPr>
          <a:xfrm>
            <a:off x="1395360" y="2316240"/>
            <a:ext cx="217656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4"/>
          <a:stretch/>
        </p:blipFill>
        <p:spPr>
          <a:xfrm>
            <a:off x="5826240" y="1628640"/>
            <a:ext cx="287820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1328760" y="51516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1316160" y="4290840"/>
            <a:ext cx="8229600" cy="787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1322280" y="3486240"/>
            <a:ext cx="82296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8:07Z</dcterms:created>
  <dc:creator/>
  <dc:description/>
  <dc:language>en-US</dc:language>
  <cp:lastModifiedBy/>
  <dcterms:modified xsi:type="dcterms:W3CDTF">2011-12-08T11:58:12Z</dcterms:modified>
  <cp:revision>1</cp:revision>
  <dc:subject/>
  <dc:title/>
</cp:coreProperties>
</file>